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B6B-4189-490E-AFAA-6A55A8E8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3D0-DBDB-448D-A0D7-98479FEB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930-3A79-4C75-BFA8-00E5F899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DF9-5CCB-43E9-9148-2F6E5168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045-A7D4-4F4C-8735-14962B35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360-2BE9-4602-ACCE-71A2AAF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EAA-BB18-4FCE-886B-A36EEAE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76EC-A604-417B-9A27-A6539CB3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9841-3ACF-42B5-A324-399CFD4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831C-EEB2-43C1-BE0F-FDB0FD1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709D-C337-461E-909A-F349246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B6E-4780-416D-A489-0D72EC9E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E17-2739-421C-B619-20EDEE0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DDA-18D6-4780-BB05-23AFAF1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1D14-9D1F-4787-8C32-14960073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865E-C16F-472F-AFDF-2CD4CD17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93EA-3B6F-401C-B52B-3F7E507E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85A-F104-4772-99F1-758164E8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688-0D2F-4CD9-B322-D83FF7E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63F-E509-40B6-81E6-DD62168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A37-4EDB-4758-94C2-09368BE9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151-94F2-4AB8-9492-3FFADA4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23A-2B1C-41C6-AC29-350C513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0A5-7F53-4843-A90B-908DD4C5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4EDC-8B8A-4DD3-B145-383D568472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DB7D-711F-4C54-99C6-B2556746A2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rotege.stanford.edu/doc/owl/getting-started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racer-systems.com/products/download/index.p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rotege Tutor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ProtegeOWLTutorial at proteg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6: Creating disjoint sub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epper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RedPepperTopping, GreenPepperTopping, JalapenoPepper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Cheese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MozzarellaTopping, Parmeza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Seafood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isjoint subclasses: TunaTopping, AnchovyTopping and Praw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W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Properties represent relationships between two ob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main proper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properties: link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type properties: link object to XML Schema datatype or rdf:lit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has another property – Annotation properties, to be used to add annotation information to classes, individuals, and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47242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7: Create an object proper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itch to the “Properties” tab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“Create Object Property” button to create a new object prope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me it to hasIngred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8: Creating sub-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Ingredient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hasTopping and hasBase as the sub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rs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object property may have a corresponding inverse prope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property links individual a to individual b, then its inverse property will link individual b to individual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5120" y="4648320"/>
            <a:ext cx="43034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9: Create invers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object property called isIngredien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Set inverse property” butt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“hasIngredi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inverse relation has been set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as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sBaseOf as the inverse property of ha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BaseOf is the subproperty of isIngredientOf,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as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sToppingOf as the inverse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oppingOf is the subproper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sIngredientOf,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property is functional, for a given individual, there can only be at most one individual to be related via this proper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given domain, range must be u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properties are also known as single valued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4648320"/>
            <a:ext cx="5029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rse 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roperty is inverse functional, then its inverse property is funct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given range, domain must be u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5257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vs. inverse functional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Property vs InverseFunctionalPrope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492280"/>
          <a:ext cx="7991280" cy="188748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655640"/>
                <a:gridCol w="280836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 given 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is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Father: A hasFather B, A hasFather 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=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Functional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is u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 given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ID: A hasID B, C hasID 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=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proteg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ge is a free, open-source platform to construct domain models and knowledge-based applications with ontolo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tologies range from taxonomies, classifications, database schemas to fully axiomatized theo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tologies are now central to many applications such as scientific knowledge portals, information management and integration systems, electronic commerce and web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nsitive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property is transitive, and the property related individual a to individual b, and also individual b to individual c, then we can infer that individual a is related to individual c via property 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1385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metric Proper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property P is symmetric, and the property relates individual a to individual b, then individual b is also related to individual a via property 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43689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0: Make the hasIngredient property transit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Ingredient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ck the transitive tick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IngredientOf property, make sure that the transitive tick box is tick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1: Make the hasBase property function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Bas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ck the “functional” tick 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-DL does not allow datatype properties to be transitive, symmetric or have inverse proper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domains and r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ies link individuals from the domain to individuals from the r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WL uses domain and range as axioms in reas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2: Specify the range of hasT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range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zzaTopping should be displayed in the range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ultiple classes are added to the range, they represent the union of all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13: Specify Pizza as the domain of the hasTopping propert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hasTopping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add domain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zza is displayed in the domain li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multiple classes are added as domain, they represent as the union of these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14: Specify the domain and range for the isToppingOf property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ToppingOf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the domain of the isToppingOf property to PizzaTop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the range of the isToppingOf property to 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66"/>
                </a:solidFill>
                <a:latin typeface="Arial"/>
              </a:rPr>
              <a:t>E15: Specify the domain and range for the hasBase property and its inverse property isBaseOf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hasBas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domain as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range as Pizz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the isBaseOf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domain as Pizz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the range as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restri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WL, properties are used to create restri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ictions are used to restrict the individuals that belong to a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tri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fier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istential quantifier (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iversal quantifier (      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dinality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Value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191120" y="4038480"/>
                <a:ext cx="19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038480" y="434340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stall Prote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rotege.stanford.edu/doc/owl/getting-started.htm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download protege (version 3.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ge OWL editor is built with the full installation of protege platform. During the install process, choose the “Basic+OWL” o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ore details: http://protege.stanford.edu/doc/owl/getting-started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6: Add a restriction to 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a restriction to Pizza that specifies a Pizza must have a Pizz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Necessary header to create a necessary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reate a restriction wiz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hasBase as restricted proper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someValueFrom as restri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t PizzaBase into the fi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5526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 a restriction to 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52680" y="2103480"/>
            <a:ext cx="4237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8: Creating different kinds of Pizz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subclass of Pizza called NamedPizza, and a subclass of NamedPizza called Margherita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comment to MargheritaPizza: A pizza that only has Mozarella and Tomato topp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19: Adding restrictions to Margherita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that MargheritaPizza has at least one MozzarellaT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“Asserted Conditions”, create new restr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someValue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hasTopping as the property to be restri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MozzarellaTopping as the f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0: Adding restrictions to Margherita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that MargheritaPizza has at least one TomatoTo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“Asserted Conditions”, create new restri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someValue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hasTopping as the property to be restri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omatoTopping as the fi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s OK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1: Create AmericanPiz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mericanPizza with toppings of pepperoni, mozzarella and toma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cloning and modifying the description of MargheritaPizz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reate c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additional restriction to AmericanaPi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ng PepperoniTopp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 O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22: Create an AmericanHotPizza and a SohoPizz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mericanHotPizza is almost the same as an AmericanaPizza, but has JalapenoPepperTopping o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ohoPizza is almost the same as a MargheritaPizza, but has additional OliveTopping and Parmezan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5791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23: Make subclasses of NamedPizza disjoint from each other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MargheritaPiz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 “add all siblings” button on the “Disjoints widget” to make the pizzas disjoint from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a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ology described in OWL-DL can be processed by a reason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owl—preference, to make sure that OWL-DL is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in services offered by a reasoner is to test whether or not one class is a subclass of another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performing such tests on all of the classes, it is possible for a reasoner t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ute the inferred ontology class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other reasoning service i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stency check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to check whether or not it is possible for the class to have any instanc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lass is deemed to be inconsistent if it cannot possibly have any instanc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ing Rac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to reason over the ontology in Protege-OWL, a DIG compliant reasoner should be installed and star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is tutorial, we use Rac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wnload at: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racer-systems.com/products/download/index.p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click RacerPro to start Ra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e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re are two main ways of modelling ontologi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-bas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ch has its own user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tege Frames editor: enables users to build and populate ontologies that are frame-based, in accordance with OKBC (Open Knowledge Base Connectivity Protocol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s for properti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s f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tege OWL editor: enables users to build ontology for the Semantic Web, in particular to OW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oking the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ving started Racer, the ontology can be sent to the reasoner to automatically c</a:t>
            </a: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pute the classification hierarchy, and also check the logical consistency of the ontolo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tege, the manually constructed class hierarchy is called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serted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The automatically computed by the reasoner is called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erred hierarch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 to OWL – classify taxonomy – to invoke the reaso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has b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lass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class name will appear in a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blue 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inferred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 to OWL – Check consistency – to invoke the reason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has been found to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’s icon will be circl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tr-TR" sz="2000" spc="-1" strike="noStrike">
                <a:solidFill>
                  <a:srgbClr val="ff0000"/>
                </a:solidFill>
                <a:latin typeface="Arial"/>
              </a:rPr>
              <a:t> color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uting the inferred class hierarchy is also known 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lassifying the ontolo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oke the reaso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4: Inconsistent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rder to demonstrate the use of the reasoner to detect inconsistencies in the ontology, we will create a class ProbeInconsistentTopping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the subclass of CheeseT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robeInconsistentTopping, go to asserted condition to add named classes, select VegetableTopping and then press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OWL – check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343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25: Classify the ontology agai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ee ProbeInconsistentTopping is inconsis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5353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26: Remove the disjoint statemen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CheeseTopping and VegetableTopping to see what happ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heeseT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 to Disjoint 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VegetableTopping, right click and “Delete the selected row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 taxono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consistency no longer exis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27: Fix the ont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aking CheeseTopping and VegetableTopping disjoint from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Ontology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wiki.stanford.edu/index.php/Protege_Ontology_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tuto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co-ode.org/resources/tutorials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ge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.stanford.edu/doc/user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protege.stanford.edu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ing an OWL Ont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2: Create a new OW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prote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– New Project – OWL/RDF files – Ontology URI (http://www.pizza.com/ontologies/pizza.owl) – OWL DL – Properties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ew empty Protege-OWL project has been cre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e it in your local file as pizza.ow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ed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OWL Classes t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mpty class tree contains one class called owl:Thing, which is superclass of every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3: Create subclasses Pizza, PizzaTopping and PizzaBase. They are subclasses of owl: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ing con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pecial naming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joint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4: How to say that Pizza, PizzaTopping and PizzaBase classes are disjoi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114800" y="3124080"/>
            <a:ext cx="4336920" cy="3135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9480" y="3048120"/>
            <a:ext cx="33530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lass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“add siblings” button on the disjoint classes wi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izzaBase and PizzaTo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lass PizzaTop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izza and PizzaBase to the disjoin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5: Create group of 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hinAndCrisyBase and DeepPanBase as the subclasses of PizzaBase, and each of them are disjoi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izzaBase, right click the mouse, select “create subclass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the wizard to create these two disjoint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save lots of time when there is need to create lots of disjoint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6: Create some subclasses of PizzaT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PizzaTopp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subclaesses as MeatTopping, VegetableTopping, CheeseTopping and SeafoodTopping. Make sure that these classes are disjoint to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the class MeatTopp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disjoint subclasses: SpicyBeefTopping, PepperoniTopping, SalamiTopping and HamTo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VegetableTopp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disjoint subclasses: TomatoTopping, OliveTopping, MushroomTopping, PepperTopping, OnionTopping, CaperTo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14:45Z</dcterms:created>
  <dc:creator>yindin</dc:creator>
  <dc:description/>
  <dc:language>en-US</dc:language>
  <cp:lastModifiedBy>Erdogan Dogdu</cp:lastModifiedBy>
  <dcterms:modified xsi:type="dcterms:W3CDTF">2008-11-04T09:03:19Z</dcterms:modified>
  <cp:revision>155</cp:revision>
  <dc:subject/>
  <dc:title>Protege Tutorial</dc:title>
</cp:coreProperties>
</file>